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F17-F79C-4FB6-8877-8F11C7BC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F61-FBC8-46C1-B6F5-E8CA7564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DFE-4081-497D-9213-864F591E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D85-2C5F-465D-8576-F82FA4D1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E56-0712-49A8-894D-E99122C4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A30-D26D-4570-94C1-F5605EF2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794-32A4-4652-AAE6-005FC7AD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0AD-F756-414A-9E01-20AD933B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23C-B08B-4663-8891-4265E11C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22C-7FEA-4B2E-8C7E-BA71515C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19A-5EDB-49DC-88C5-C089D23E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4AD-3857-4FAE-ADFE-2F2B4A97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53A4-EDD8-4A71-ACA2-D9EA851904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оз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ельных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озия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позднел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ъедание) – это физико-химическое взаимодействие металлических материалов и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20725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металлов сопротивляться воздействию среды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тойк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химическим сопротивлением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а, в которой протекают коррозионные процессы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ре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талл, подвергающийся коррозии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дирующий метал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химические продукты, образующиеся в результате коррози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ами корро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466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и процессов корро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297576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434592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азов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96720" y="518148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9420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чвенн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01400" y="62485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рск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5955480" y="46483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ио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5579640" y="510552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акт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5196240" y="563868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диацион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663080" y="617220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я под напря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25080" y="2286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кави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887000" y="2286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реттинг-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28600" y="685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о-механ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ушение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23640" y="12193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устал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2135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679840" y="289548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лош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1055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2514600" cy="1447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3659760" y="5257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915640" y="83808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ная (локальная корроз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89520" y="3429000"/>
            <a:ext cx="36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поверхнос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2895480" cy="1324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4356360" y="342900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жкристалли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коррозия металлических материалов – это самопроизвольный окислительно-восстановительный процесс разрушения металла в окружающей среде без возникновения в системе электрического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049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ные или солевые соединения, образующиеся в результате коррозионных процессов на металлах, называются поверхностными или защитными плен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52280" y="3581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сидные пленки на поверхности жел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 коррозии железа называются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066680" y="4419720"/>
                <a:ext cx="55627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F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процесс окисления</m:t>
                        </m:r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процесс восстановле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685800" y="380880"/>
            <a:ext cx="2819520" cy="3581640"/>
            <a:chOff x="685800" y="380880"/>
            <a:chExt cx="2819520" cy="3581640"/>
          </a:xfrm>
        </p:grpSpPr>
        <p:sp>
          <p:nvSpPr>
            <p:cNvPr id="102" name="AutoShape 15"/>
            <p:cNvSpPr/>
            <p:nvPr/>
          </p:nvSpPr>
          <p:spPr>
            <a:xfrm>
              <a:off x="685800" y="380880"/>
              <a:ext cx="2819520" cy="35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685800" y="2583000"/>
              <a:ext cx="2819520" cy="12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3"/>
                <p:cNvSpPr txBox="1"/>
                <p:nvPr/>
              </p:nvSpPr>
              <p:spPr>
                <a:xfrm>
                  <a:off x="2330280" y="380880"/>
                  <a:ext cx="39132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1155240" y="1953720"/>
                  <a:ext cx="5223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1"/>
                <p:cNvSpPr txBox="1"/>
                <p:nvPr/>
              </p:nvSpPr>
              <p:spPr>
                <a:xfrm>
                  <a:off x="1625400" y="1953720"/>
                  <a:ext cx="5212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0"/>
                <p:cNvSpPr txBox="1"/>
                <p:nvPr/>
              </p:nvSpPr>
              <p:spPr>
                <a:xfrm>
                  <a:off x="2565360" y="1953720"/>
                  <a:ext cx="52020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9"/>
            <p:cNvSpPr/>
            <p:nvPr/>
          </p:nvSpPr>
          <p:spPr>
            <a:xfrm flipH="1">
              <a:off x="1390320" y="695520"/>
              <a:ext cx="939600" cy="10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2094840" y="1009800"/>
              <a:ext cx="3124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2565360" y="1009800"/>
              <a:ext cx="15624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1859760" y="3212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5"/>
                <p:cNvSpPr txBox="1"/>
                <p:nvPr/>
              </p:nvSpPr>
              <p:spPr>
                <a:xfrm>
                  <a:off x="919800" y="2583000"/>
                  <a:ext cx="6267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4"/>
                <p:cNvSpPr txBox="1"/>
                <p:nvPr/>
              </p:nvSpPr>
              <p:spPr>
                <a:xfrm>
                  <a:off x="2799360" y="2583000"/>
                  <a:ext cx="6256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Line 3"/>
            <p:cNvSpPr/>
            <p:nvPr/>
          </p:nvSpPr>
          <p:spPr>
            <a:xfrm flipH="1" flipV="1">
              <a:off x="1389960" y="2897280"/>
              <a:ext cx="469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"/>
            <p:cNvSpPr/>
            <p:nvPr/>
          </p:nvSpPr>
          <p:spPr>
            <a:xfrm flipV="1">
              <a:off x="2330280" y="3212280"/>
              <a:ext cx="4712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8"/>
          <p:cNvSpPr/>
          <p:nvPr/>
        </p:nvSpPr>
        <p:spPr>
          <a:xfrm>
            <a:off x="3809880" y="28638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~100 : 10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28600" y="4124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 коррозии –  термодинамическая неустойчивость системы, состоящей из металла и компонентов корроз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рой термодинамической неустойчивости является свободная энергия Гиббса, освобождаемая при взаимодействии металла с этими компонент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4920" y="6170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температуры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увеличением температуры  скорость коррозии возрастает. Колебания температуры при нагреве металла, попеременные нагрев и охлаждение увеличивают скорость окисления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ксидной пленке возникают термические напряжения, образуются трещины и она начинает отслаиваться от ме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282816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давления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арциальное давление окислителя ниже давления диссоциации образующегося соединения, то термодинамическое окисление металла пре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кисление металла лимитируется химической реакцией, то скорость коррозии увеличивается пропорционально корню квадратному от величины давления кисло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" y="5257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состава газа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воздуха углекислым газом, диоксидом серы, парами воды вызывает повышение скорости газовой корро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80880" y="210960"/>
            <a:ext cx="8382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коррозия возникает в присутствии электролита вследствие перехода электронов от одних участков металла к другим. При этом протекают два сопряженных процесса: переход металла в раствор (окислительный или анодный процесс) и переход этих ионов из раствора с выделением их на поверхности метал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восстановительный или катодный проце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↔ 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28600" y="397008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электрохимической корроз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ывается на концепции локальных элементов, т.е. особых гальванических пар микроскопических или же макроскопических, совокупная деятельность которых приводит к коррозионному разрушению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3124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скопические гальванические пары возникают при контакте двух металлов различной активности с электролитом. Электроны переходят от более активного металла к менее активному, и более активный металл разру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63800" y="2330640"/>
            <a:ext cx="453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 0,44 В,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0,33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304920" y="2896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" y="3528720"/>
            <a:ext cx="4267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 Н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↑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28600" y="610920"/>
            <a:ext cx="868680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родная деполяр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на для растворов с высокой активностью ионов водорода, т.е. для растворов кислот. Акцепторами электронов являются ионы вод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&lt;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е → 1/2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ами электронов являются молекулы 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ррозия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лектро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етоды защиты от кор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ррозия неметаллических строитель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собенности коррозии стальной арм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838080" y="502560"/>
            <a:ext cx="79250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лородная деполяр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арактерна для металлов, которые находятся в атмосфере и соприкасаются с водой и растворами солей. Акцептором электронов в этих случаях является растворенный в электролите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ах при рН&lt; 7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 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е →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: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2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→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4920" y="47556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висимо от условий протекания процессов, проце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ного окисления включа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од электронов с анодного участка на катодный; роль анода всегда выполняет более активный 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онов в электролитических проводящих сре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ного восстановл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авливаются атомы, ионы, молекулы, способные принимать элект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гальванопары возникают при соприкосновении металла с электролитом (электролитом может быть влага, адсорбируемая из возду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"/>
          <p:cNvGrpSpPr/>
          <p:nvPr/>
        </p:nvGrpSpPr>
        <p:grpSpPr>
          <a:xfrm>
            <a:off x="2743200" y="2286000"/>
            <a:ext cx="3504960" cy="2971800"/>
            <a:chOff x="2743200" y="2286000"/>
            <a:chExt cx="3504960" cy="2971800"/>
          </a:xfrm>
        </p:grpSpPr>
        <p:sp>
          <p:nvSpPr>
            <p:cNvPr id="134" name="AutoShape 18"/>
            <p:cNvSpPr/>
            <p:nvPr/>
          </p:nvSpPr>
          <p:spPr>
            <a:xfrm>
              <a:off x="2895480" y="2286000"/>
              <a:ext cx="3352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072240" y="4465440"/>
              <a:ext cx="299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3424680" y="3474720"/>
              <a:ext cx="1941480" cy="138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743200" y="4465440"/>
              <a:ext cx="2975400" cy="7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тод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анод    кат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3424680" y="4465440"/>
              <a:ext cx="229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249000" y="3672720"/>
              <a:ext cx="35208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424680" y="3474720"/>
              <a:ext cx="3531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5189400" y="3672720"/>
              <a:ext cx="1764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H="1">
              <a:off x="5012640" y="3276720"/>
              <a:ext cx="176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4483800" y="3276720"/>
              <a:ext cx="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466020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4307040" y="3276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30704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4952880" y="3124440"/>
              <a:ext cx="942120" cy="26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4130280" y="2484000"/>
              <a:ext cx="882360" cy="67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2895480" y="2880360"/>
              <a:ext cx="70560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"/>
            <p:cNvSpPr/>
            <p:nvPr/>
          </p:nvSpPr>
          <p:spPr>
            <a:xfrm>
              <a:off x="4660200" y="2286000"/>
              <a:ext cx="158796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пля в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5"/>
          <p:cNvSpPr/>
          <p:nvPr/>
        </p:nvSpPr>
        <p:spPr>
          <a:xfrm>
            <a:off x="380880" y="698760"/>
            <a:ext cx="8229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кислой сред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4е → 40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(в нейтральной  сред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90720" y="2438280"/>
          <a:ext cx="7848360" cy="4326120"/>
        </p:xfrm>
        <a:graphic>
          <a:graphicData uri="http://schemas.openxmlformats.org/drawingml/2006/table">
            <a:tbl>
              <a:tblPr/>
              <a:tblGrid>
                <a:gridCol w="3398760"/>
                <a:gridCol w="3448080"/>
                <a:gridCol w="1001520"/>
              </a:tblGrid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той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коррозии металла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/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о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ма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1 до 0,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5 до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1 до 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5 до 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о-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1 до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5 до 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,0 до 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,0 до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1"/>
          <p:cNvSpPr/>
          <p:nvPr/>
        </p:nvSpPr>
        <p:spPr>
          <a:xfrm>
            <a:off x="152280" y="69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электрохимической коррозии представляет суммарную силу тока всех коррозионных пар, функционирующих на поверхности мет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их целей применяют условную десятибалльную шкалу коррозионной 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362320" y="990720"/>
            <a:ext cx="5790600" cy="3580920"/>
            <a:chOff x="2362320" y="990720"/>
            <a:chExt cx="5790600" cy="3580920"/>
          </a:xfrm>
        </p:grpSpPr>
        <p:sp>
          <p:nvSpPr>
            <p:cNvPr id="156" name="AutoShape 21"/>
            <p:cNvSpPr/>
            <p:nvPr/>
          </p:nvSpPr>
          <p:spPr>
            <a:xfrm>
              <a:off x="2445840" y="1066680"/>
              <a:ext cx="540108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3205440" y="116568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3205440" y="3794760"/>
              <a:ext cx="30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3205440" y="3268800"/>
              <a:ext cx="3038400" cy="525600"/>
            </a:xfrm>
            <a:prstGeom prst="rect">
              <a:avLst/>
            </a:prstGeom>
            <a:solidFill>
              <a:srgbClr val="c0c0c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205440" y="1866600"/>
              <a:ext cx="2869560" cy="35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205440" y="1341000"/>
              <a:ext cx="27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4218840" y="2392560"/>
              <a:ext cx="309492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сс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33240" y="990720"/>
              <a:ext cx="57780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2362320" y="1866600"/>
              <a:ext cx="745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па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12"/>
            <p:cNvSpPr/>
            <p:nvPr/>
          </p:nvSpPr>
          <p:spPr>
            <a:xfrm flipH="1" flipV="1">
              <a:off x="4049640" y="3268080"/>
              <a:ext cx="1350000" cy="35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 flipV="1">
              <a:off x="4049640" y="2041920"/>
              <a:ext cx="16884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4218840" y="1866240"/>
              <a:ext cx="1012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 flipV="1">
              <a:off x="4049640" y="1515960"/>
              <a:ext cx="84384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4627800" y="1691640"/>
              <a:ext cx="669240" cy="138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400000" y="1341000"/>
              <a:ext cx="2752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248160" y="1676160"/>
              <a:ext cx="1877760" cy="60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еходная обл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5977800" y="3268800"/>
              <a:ext cx="200700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ушение пассив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3106800" y="3970800"/>
              <a:ext cx="4401360" cy="48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арифм скорости раство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0"/>
          <p:cNvSpPr/>
          <p:nvPr/>
        </p:nvSpPr>
        <p:spPr>
          <a:xfrm>
            <a:off x="304920" y="53384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роцесса растворения металла в области пассивации становится очень малой и может сохраняться сколь угодно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304920" y="856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защиты металлических материалов от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ррозионностой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защитных поверхностных покрытий мет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состава агрессив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491760"/>
            <a:ext cx="84582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устойчив к питтинговой коррозии, обладает высокой пассивацией в средах различной кислотности, что связано с образование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сновной недостаток хромистых сталей – склонность к хрупкому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образует с железом ряд твердых растворов. Пассивное состояние связано с образованием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кси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ведение никеля повышает механические свойства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введенная в стали повышает их стойкость в минеральных кисл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ганец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ает устойчивость к высокотемпературному окислению в средах, содержащих сернист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28600" y="196920"/>
            <a:ext cx="5257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Al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4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577800"/>
            <a:ext cx="4419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4920" y="1209960"/>
            <a:ext cx="8305560" cy="32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тадия – растворение в щелочи амфотерной оксидной пл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NaOH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стадия – взаимодействие металла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стадия – растворение образовавшейся гидроксидной пленки в растворе щел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OH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4578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тным поверхностным покрытиям относятся неорганические защитные пленки (фосфатные, оксидные), гальванопокрытия, органические изолирующие покрытия (лакокрасочные, эпоксидные, полиуретанов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152280" y="2286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екторная защ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ется в тех случаях, когда защищаемая конструкция находится в среде электрол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219320" y="1026360"/>
            <a:ext cx="5486400" cy="1779120"/>
            <a:chOff x="1219320" y="1026360"/>
            <a:chExt cx="5486400" cy="1779120"/>
          </a:xfrm>
        </p:grpSpPr>
        <p:sp>
          <p:nvSpPr>
            <p:cNvPr id="184" name="AutoShape 21"/>
            <p:cNvSpPr/>
            <p:nvPr/>
          </p:nvSpPr>
          <p:spPr>
            <a:xfrm>
              <a:off x="1219320" y="1295280"/>
              <a:ext cx="5486400" cy="1486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 rot="13803600">
              <a:off x="2658240" y="725040"/>
              <a:ext cx="326880" cy="238104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4305960" y="2209680"/>
              <a:ext cx="20556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3071520" y="1981080"/>
              <a:ext cx="14414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4511880" y="1981080"/>
              <a:ext cx="1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1219320" y="1523880"/>
              <a:ext cx="1029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1837440" y="1752480"/>
              <a:ext cx="410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492408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389484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894840" y="2552760"/>
              <a:ext cx="102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924080" y="22096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H="1">
              <a:off x="3688920" y="2209680"/>
              <a:ext cx="205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>
              <a:off x="3894840" y="232416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100400" y="2438280"/>
              <a:ext cx="204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511880" y="2438280"/>
              <a:ext cx="2059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4511880" y="232416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>
              <a:off x="4511880" y="220968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 flipH="1">
              <a:off x="3894840" y="220968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129280" y="2438280"/>
              <a:ext cx="1576080" cy="2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т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"/>
            <p:cNvSpPr/>
            <p:nvPr/>
          </p:nvSpPr>
          <p:spPr>
            <a:xfrm flipH="1" flipV="1">
              <a:off x="4511880" y="2437920"/>
              <a:ext cx="822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2743200" y="4104000"/>
            <a:ext cx="6400800" cy="1872720"/>
            <a:chOff x="2743200" y="4104000"/>
            <a:chExt cx="6400800" cy="1872720"/>
          </a:xfrm>
        </p:grpSpPr>
        <p:sp>
          <p:nvSpPr>
            <p:cNvPr id="206" name="AutoShape 41"/>
            <p:cNvSpPr/>
            <p:nvPr/>
          </p:nvSpPr>
          <p:spPr>
            <a:xfrm>
              <a:off x="2743200" y="4191120"/>
              <a:ext cx="6400800" cy="1600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 rot="13803600">
              <a:off x="4279680" y="3777120"/>
              <a:ext cx="326880" cy="252648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7547760" y="5334120"/>
              <a:ext cx="21852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6238080" y="4991400"/>
              <a:ext cx="735840" cy="228600"/>
            </a:xfrm>
            <a:prstGeom prst="rect">
              <a:avLst/>
            </a:pr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7"/>
            <p:cNvSpPr/>
            <p:nvPr/>
          </p:nvSpPr>
          <p:spPr>
            <a:xfrm>
              <a:off x="4708440" y="5105520"/>
              <a:ext cx="152928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>
              <a:off x="6892920" y="5105520"/>
              <a:ext cx="6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7547760" y="5105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V="1">
              <a:off x="6455520" y="44193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3"/>
            <p:cNvSpPr/>
            <p:nvPr/>
          </p:nvSpPr>
          <p:spPr>
            <a:xfrm flipV="1">
              <a:off x="6674040" y="4533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6455520" y="4419720"/>
              <a:ext cx="87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674040" y="453384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2819520" y="4648320"/>
              <a:ext cx="1091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7909560" y="5409720"/>
              <a:ext cx="12340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7036200" y="4266720"/>
              <a:ext cx="14526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 с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3399120" y="4876920"/>
              <a:ext cx="43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6"/>
            <p:cNvSpPr/>
            <p:nvPr/>
          </p:nvSpPr>
          <p:spPr>
            <a:xfrm flipH="1" flipV="1">
              <a:off x="7765920" y="5448240"/>
              <a:ext cx="43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Прямоугольник 44"/>
          <p:cNvSpPr/>
          <p:nvPr/>
        </p:nvSpPr>
        <p:spPr>
          <a:xfrm>
            <a:off x="2417760" y="324468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катодной защиты трубопро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4059360" y="91440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ренажной защиты т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3104640"/>
            <a:ext cx="85345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я первого вида или коррозия выщелачив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водные растворы солей и вода с малой жесткостью способны растворять цементный камень, не вступая с ним в химическое взаимодействие. Образующиеся растворенные компоненты цементного камня (например, Са(ОН)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выносятся во внешнюю среду, делая его пористым и менее про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68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ый мониторинг включает четыре основных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проек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изгото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о время эксплуа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 период рено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2678760"/>
            <a:ext cx="830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ое химическое свойство всех метал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овительная активность. Металлы сравнительно легко отдают валентные электроны, превращаясь в положительные ионы (катио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–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 металлов не присоединяют электронов и не образуют отрицательно заряженных ионов (анио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04920" y="200160"/>
            <a:ext cx="8839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гидролиза в упрощенном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(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2 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∙3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2758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оррозия второ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ы коррозионного разрушения связаны с химическим взаимодействием цементного камня и агрессивных компон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роисходит образование легко растворимых продуктов, выносимых из бетона во внешнюю среду, или аморфных веществ, не обладающих вяжущими свойствами и не способных препятствовать дальнейшему развитию корро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ая корроз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а с взаимодействием гидроксида кальция с кислотами (р. нейтрализа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685800" y="11430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(ОН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О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685800" y="1720800"/>
            <a:ext cx="6477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(OH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→ Ca(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48920" y="2330640"/>
            <a:ext cx="6063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0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Ca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1140480" y="2819520"/>
            <a:ext cx="42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отная корроз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92200" y="3291480"/>
            <a:ext cx="480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380880" y="51055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 органическ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ие вещества природных вод в основном представлены гуминовыми, гумусовыми кислотами и их со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228600" y="3873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е сол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ого вида коррозии наиболее характерны обменные реакции. Скорость коррозии зависит, как от состава этих солей, так и от продуктов их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146320"/>
            <a:ext cx="8382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0" i="1" lang="pt-BR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+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8880" y="3168720"/>
            <a:ext cx="7930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Ca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2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04920" y="3708720"/>
            <a:ext cx="88390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езиаль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солей магния с компонентами цементного камня характеризуется тем, что в результате образуется  практически нерастворимый гидроксид маг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Mg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+ 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86040" y="5835600"/>
            <a:ext cx="5508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газообразных вещест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цессы коррозии бетона зависят от природы  и  химической активности эт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304920" y="1841760"/>
            <a:ext cx="861048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68160" y="3016440"/>
            <a:ext cx="4469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3819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ррозия третье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коррозии связан с накоплением и действием новообразований в порах и капиллярах бетона. При заполнении таких пространств в толще бетона может возникать внутреннее напряжение, которое приводит к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80880" y="482760"/>
            <a:ext cx="84582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льфат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растворенного гипса с трехкальциевым гидроалюминатом образуется трудно растворимый, обладающий большой гигроскопичностью гидросульфоалюминат кальция. Поглощая большое количество воды, он значительно увеличивается в объеме (~ в 2,5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n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СаО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 3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996480" y="403848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лочная корро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4920" y="45054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динамика коррозии строительных материал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извольно будут протекать те процессы, которые сопровождаются образованием более стойких веществ (с более отрицательными значениями энтальпии образования) по сравнению с исход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304920" y="349200"/>
            <a:ext cx="8610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Са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Ca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+ Si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572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атированием — обработка поверхности бетона водными растворами кремнефтористоводородной кис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228600" y="2245680"/>
            <a:ext cx="8305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ение растворимости для СаС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тандартных условиях составляет  4,8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дл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 растворимость карбоната кальция гораздо меньше растворимости гидроксида каль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гидравлических добавок повышает прочность цементного кам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(n-1)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= CaO∙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4920" y="199080"/>
            <a:ext cx="883908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исутствии хлора деполяризация катода происходит в основном за счет реакции восстановления хлора, а не кисл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 = 1,36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де хлор гидролизуется с образованием хлороводородной и хлорноватистой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HCl + H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лорноватистая кислота является более сильным ок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6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4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57200" y="723960"/>
            <a:ext cx="845820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3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8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рН=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35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сернистого газа с железом образуется сульфид и гидр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 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FeS↓+ 2 Fe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838080" y="350280"/>
            <a:ext cx="7162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й стержень из меди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+ 0,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кадмия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0,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вытеснять олово из 1М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Напишите уравнения вытеснения олова из раствора в молекулярном и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,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м стандартные электродные потенциалы металлов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медь является окислителем по отношению к олову и не может вытеснять его из растворов;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ледовательно, кадмий – восстановитель по отношению к олову и будет вытеснять его из раств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вытеснения запиш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олекулярном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d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   +   Cd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609480" y="476640"/>
            <a:ext cx="7467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уравнения электродных процессов, происходящих при коррозии медно-цинкового сплава в растворе кислоты при рН = 3, Т = 298К А) с водородной деполяризацией  Б) с кисл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равним стандартные потенциалы металлов: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3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0,7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анодом будет цинк, катодом –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ные проце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я реакция:     (-) 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ые реакции:(+) К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сл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реак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од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с кислородной деполяризаци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71600" y="3808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аллотр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33520" y="91440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ниже 9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зуется  α- железо     с объемно-центрированной кубической решет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910 – 14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железо     с гранецентрированной кубической решет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8600" y="28231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родные сплав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вердые растворы металлов, интерметаллические соединения, твердые растворы интерметаллидов в металлах или друг в д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403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ы – проводники первого 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04920" y="228600"/>
          <a:ext cx="792468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3352680"/>
                <a:gridCol w="1828800"/>
              </a:tblGrid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+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3+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+ + 1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168156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йной электрический слой на границе раздела 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006800"/>
            <a:ext cx="5029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27400" y="4768920"/>
            <a:ext cx="461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 →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9480" y="5379840"/>
            <a:ext cx="82296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962520" y="1523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й электрический слой на границе раздела мало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735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енциал, установившийся в условиях равновесия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вес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04920" y="48769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дный потенциал является постоянной величиной при данной температуре. Если пластинка металла опущена в раствор его соли с активностью ионов металла, равной единице (а=1), то, возникающий электродный потенциал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ндарт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2480" y="67284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внение Нерн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"/>
              <p:cNvSpPr txBox="1"/>
              <p:nvPr/>
            </p:nvSpPr>
            <p:spPr>
              <a:xfrm>
                <a:off x="3048120" y="380880"/>
                <a:ext cx="4495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"/>
          <p:cNvSpPr/>
          <p:nvPr/>
        </p:nvSpPr>
        <p:spPr>
          <a:xfrm flipV="1" rot="10800000">
            <a:off x="457200" y="1657080"/>
            <a:ext cx="6477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андартный электродный потенциал (в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азовая постоя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– абсолютная температ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степень окисления ион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Фарадея – 96500 кул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активность ионов в рас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89124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збавленных растворов или растворов слабых электролитов (где с = 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029200" y="3809880"/>
                <a:ext cx="3505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367440" y="548676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– концентрация ионов в растворе (моль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5259240" y="6858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ический э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2120" y="3408120"/>
            <a:ext cx="76960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н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+ 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→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кат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+ 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Zn 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Cu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1211040"/>
            <a:ext cx="8458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 с большим стандартным редокс-потенциалом игрет роль окислителя по отношению к паре с меньши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движущая сила определяется как разность электродных потенциалов, устанавливающихся на границе каждого из этих металлов с раств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е активный металл посылает в  раствор положительно заряженные гидратированные ионы, а сам заряжается отрицательно. К менее активному металлу подходят электроны, восстанавливающие  катионы или моле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я протекает самопроизвольно в прямом направлении, если ее ЭДС положительна, т.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=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кис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вос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Если ЭДС окажется отрицательной, то реакция идет в обратном на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5-17T19:48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